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F41A-8769-4251-BED6-BF9EDADCF2C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E43C-942F-4EF5-BE4E-0E24124D5EA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FC4A-68AD-4BDF-BE44-EE60E523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ED98-DE16-4490-9D93-FA976211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EBE7-4061-4DEC-9765-E63293035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CF83-3161-4DC5-9E23-853DC3EC9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4449-B38C-441D-954F-CA7FCEA0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9F37-6C25-4638-9A8E-32B24CB9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DFDB-E254-4F7C-83A1-90D4381E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9341-230E-4D60-B4A9-9B2B4B94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2C1C-CF86-46DC-BA38-2C717E8F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48C3-8020-4D6B-B2BC-5360897A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BEDE-EAC6-41C4-A1B9-6FF18E7F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1061-E340-406F-BDDD-B228E9CD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81F6-C9D7-4F6C-8557-2EAE47122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-27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018 ADC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0" y="1104840"/>
            <a:ext cx="9144000" cy="5203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836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5-27 July 2018 (W-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henyang, P.R. 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307440" y="6443640"/>
            <a:ext cx="84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for TC6.1 meeting at 2017 IFAC World Congress, Toulouse (11 July 20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IFAC logo.jpg"/>
          <p:cNvPicPr/>
          <p:nvPr/>
        </p:nvPicPr>
        <p:blipFill>
          <a:blip r:embed="rId2"/>
          <a:stretch/>
        </p:blipFill>
        <p:spPr>
          <a:xfrm>
            <a:off x="31680" y="210960"/>
            <a:ext cx="1731960" cy="696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3"/>
          <a:stretch/>
        </p:blipFill>
        <p:spPr>
          <a:xfrm>
            <a:off x="7402680" y="13824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urist At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水洞"/>
          <p:cNvPicPr/>
          <p:nvPr/>
        </p:nvPicPr>
        <p:blipFill>
          <a:blip r:embed="rId1"/>
          <a:stretch/>
        </p:blipFill>
        <p:spPr>
          <a:xfrm>
            <a:off x="108000" y="1197000"/>
            <a:ext cx="9036000" cy="5572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8"/>
          <p:cNvSpPr/>
          <p:nvPr/>
        </p:nvSpPr>
        <p:spPr>
          <a:xfrm>
            <a:off x="250920" y="1341360"/>
            <a:ext cx="32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xi Cave (1 day tou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cal Tourist At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水洞123"/>
          <p:cNvPicPr/>
          <p:nvPr/>
        </p:nvPicPr>
        <p:blipFill>
          <a:blip r:embed="rId1"/>
          <a:stretch/>
        </p:blipFill>
        <p:spPr>
          <a:xfrm>
            <a:off x="611280" y="1268280"/>
            <a:ext cx="1993680" cy="2298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2"/>
          <a:stretch/>
        </p:blipFill>
        <p:spPr>
          <a:xfrm>
            <a:off x="3276720" y="1268280"/>
            <a:ext cx="2087280" cy="22971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8"/>
          <p:cNvSpPr/>
          <p:nvPr/>
        </p:nvSpPr>
        <p:spPr>
          <a:xfrm>
            <a:off x="539640" y="378936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nxi water tunnel (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本溪水洞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3203640" y="3789360"/>
            <a:ext cx="25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uanmen Mountain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（关门山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4" descr=""/>
          <p:cNvPicPr/>
          <p:nvPr/>
        </p:nvPicPr>
        <p:blipFill>
          <a:blip r:embed="rId3"/>
          <a:stretch/>
        </p:blipFill>
        <p:spPr>
          <a:xfrm>
            <a:off x="6084720" y="1268280"/>
            <a:ext cx="2303640" cy="2295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8"/>
          <p:cNvSpPr/>
          <p:nvPr/>
        </p:nvSpPr>
        <p:spPr>
          <a:xfrm>
            <a:off x="6084720" y="378936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gbai Mountain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（长白山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7" descr=""/>
          <p:cNvPicPr/>
          <p:nvPr/>
        </p:nvPicPr>
        <p:blipFill>
          <a:blip r:embed="rId4"/>
          <a:stretch/>
        </p:blipFill>
        <p:spPr>
          <a:xfrm>
            <a:off x="971640" y="4292640"/>
            <a:ext cx="3024000" cy="1800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8"/>
          <p:cNvSpPr/>
          <p:nvPr/>
        </p:nvSpPr>
        <p:spPr>
          <a:xfrm>
            <a:off x="1116000" y="6237360"/>
            <a:ext cx="28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lian Ice Valley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（大连冰峪沟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9" descr=""/>
          <p:cNvPicPr/>
          <p:nvPr/>
        </p:nvPicPr>
        <p:blipFill>
          <a:blip r:embed="rId5"/>
          <a:stretch/>
        </p:blipFill>
        <p:spPr>
          <a:xfrm>
            <a:off x="4859280" y="4292640"/>
            <a:ext cx="2951280" cy="18208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8"/>
          <p:cNvSpPr/>
          <p:nvPr/>
        </p:nvSpPr>
        <p:spPr>
          <a:xfrm>
            <a:off x="4859280" y="6237360"/>
            <a:ext cx="3024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storical town of Hetuala in Fush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抚顺赫图阿拉老城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ponsor: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Northeastern Un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8472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eastern University (NEU), founded in April, 192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ome of the State Key Laboratory on advanced control research for process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主楼夜景"/>
          <p:cNvPicPr/>
          <p:nvPr/>
        </p:nvPicPr>
        <p:blipFill>
          <a:blip r:embed="rId1"/>
          <a:stretch/>
        </p:blipFill>
        <p:spPr>
          <a:xfrm>
            <a:off x="19080" y="2852640"/>
            <a:ext cx="4697280" cy="4040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建筑馆"/>
          <p:cNvPicPr/>
          <p:nvPr/>
        </p:nvPicPr>
        <p:blipFill>
          <a:blip r:embed="rId2"/>
          <a:stretch/>
        </p:blipFill>
        <p:spPr>
          <a:xfrm>
            <a:off x="4660920" y="2881440"/>
            <a:ext cx="45194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CHEM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907560"/>
            <a:ext cx="9144000" cy="59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5 Whistler, British Columbia,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2 Singap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2009 Istanb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2006 Gram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2003 Hong K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2000 Pi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1997 Banff,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4 Kyo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991 Toul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988 Lyngby (Adaptive Control of Chemical Pro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5 Frankfurt (Adaptive Control of Chemical Pro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IFAC logo.jpg"/>
          <p:cNvPicPr/>
          <p:nvPr/>
        </p:nvPicPr>
        <p:blipFill>
          <a:blip r:embed="rId1"/>
          <a:stretch/>
        </p:blipFill>
        <p:spPr>
          <a:xfrm>
            <a:off x="249120" y="115920"/>
            <a:ext cx="173052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2018 ADCHEM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9280" y="112500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018 IFAC ADCHEM on 25-27 July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llowed by the Chinese Process Control Conference (CPCC) on 28-29 Ju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pect 400 participants for ADCHEM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pect 800 participants for CPCC in 20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teractions with the large Chinese process control commun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anquet and lunches includ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enue/Hotels: Wanxi Hotel and Sofi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8101080" y="17002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8000" y="981000"/>
            <a:ext cx="8928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018 IFAC ADCHEM on 25-27 July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inese Process Control Conference, 28-29 Ju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raft papers submission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0 Sept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cceptance Notification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1 Jan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al papers submission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1 March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al program available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 April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conference: selected papers invited for a special issue of the Journal of 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2494080" y="6093000"/>
            <a:ext cx="42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adchem2018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640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OC Honorary Chair: Tianyou Chai (NE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OC Chair: S. Joe Q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MS PGothic"/>
              </a:rPr>
              <a:t>Co-Chair: Jinliang Ding (NE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MS PGothic"/>
              </a:rPr>
              <a:t>Secretariat: Qiang Liu (NE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PC Chair: B. Wayne Bequette (RP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o-Chair: Furong Gao (HKU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Area Co-Chai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ry Biegler (USA), Scheduling and Optim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f Findeisen (GER), Model-based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n Guay (CAN), Modeling and Identif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Bagterp Jørgensen (DEN), Process Applic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ltan Nagy (USA), Batch Proce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n Wang (USA), Big Data Analytics and Monito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tor Zavala (USA), Energy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lace: Shenyang, China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largest city of Northeast Chi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argest airport of the northeas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rect flights from major Asian cities and Frankfurt,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enue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0" y="4149720"/>
            <a:ext cx="9186840" cy="2570040"/>
          </a:xfrm>
          <a:prstGeom prst="rect">
            <a:avLst/>
          </a:prstGeom>
          <a:ln w="0">
            <a:noFill/>
          </a:ln>
        </p:spPr>
      </p:pic>
      <p:sp>
        <p:nvSpPr>
          <p:cNvPr id="69" name="Line Callout 1 (Accent Bar) 1"/>
          <p:cNvSpPr/>
          <p:nvPr/>
        </p:nvSpPr>
        <p:spPr>
          <a:xfrm>
            <a:off x="2484360" y="3500280"/>
            <a:ext cx="1727280" cy="865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xin Ho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Callout 1 (Accent Bar) 7"/>
          <p:cNvSpPr/>
          <p:nvPr/>
        </p:nvSpPr>
        <p:spPr>
          <a:xfrm>
            <a:off x="4938840" y="4581360"/>
            <a:ext cx="172692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itel Ho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enue and Hote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Wanxin Hotel and Sofitel Ho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th are five stars next to each 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0 minutes from the Shenyang Air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0 minutes from the high-speed train 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ference Venue: Wanx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anxin: Negotiated rate about $70/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ofitel: Negotiated rate about $100/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[Need show-hands on preference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xin Ho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1600200"/>
            <a:ext cx="7051680" cy="470376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6" descr=""/>
          <p:cNvPicPr/>
          <p:nvPr/>
        </p:nvPicPr>
        <p:blipFill>
          <a:blip r:embed="rId2"/>
          <a:stretch/>
        </p:blipFill>
        <p:spPr>
          <a:xfrm>
            <a:off x="539640" y="1947960"/>
            <a:ext cx="6667560" cy="4448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3"/>
          <a:stretch/>
        </p:blipFill>
        <p:spPr>
          <a:xfrm>
            <a:off x="1338120" y="2227320"/>
            <a:ext cx="6667560" cy="4448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4"/>
          <a:stretch/>
        </p:blipFill>
        <p:spPr>
          <a:xfrm>
            <a:off x="2332080" y="2503440"/>
            <a:ext cx="684828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5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itel Sheny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" descr=""/>
          <p:cNvPicPr/>
          <p:nvPr/>
        </p:nvPicPr>
        <p:blipFill>
          <a:blip r:embed="rId2"/>
          <a:stretch/>
        </p:blipFill>
        <p:spPr>
          <a:xfrm>
            <a:off x="0" y="1600200"/>
            <a:ext cx="5764320" cy="3844800"/>
          </a:xfrm>
          <a:prstGeom prst="rect">
            <a:avLst/>
          </a:prstGeom>
          <a:ln w="0">
            <a:noFill/>
          </a:ln>
        </p:spPr>
      </p:pic>
      <p:pic>
        <p:nvPicPr>
          <p:cNvPr id="81" name="图片 6" descr=""/>
          <p:cNvPicPr/>
          <p:nvPr/>
        </p:nvPicPr>
        <p:blipFill>
          <a:blip r:embed="rId3"/>
          <a:stretch/>
        </p:blipFill>
        <p:spPr>
          <a:xfrm>
            <a:off x="900000" y="1916280"/>
            <a:ext cx="5759640" cy="41018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5" descr=""/>
          <p:cNvPicPr/>
          <p:nvPr/>
        </p:nvPicPr>
        <p:blipFill>
          <a:blip r:embed="rId4"/>
          <a:stretch/>
        </p:blipFill>
        <p:spPr>
          <a:xfrm>
            <a:off x="1765440" y="2281320"/>
            <a:ext cx="510048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2" descr=""/>
          <p:cNvPicPr/>
          <p:nvPr/>
        </p:nvPicPr>
        <p:blipFill>
          <a:blip r:embed="rId5"/>
          <a:stretch/>
        </p:blipFill>
        <p:spPr>
          <a:xfrm>
            <a:off x="2357280" y="2682720"/>
            <a:ext cx="5772240" cy="4124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" descr=""/>
          <p:cNvPicPr/>
          <p:nvPr/>
        </p:nvPicPr>
        <p:blipFill>
          <a:blip r:embed="rId6"/>
          <a:stretch/>
        </p:blipFill>
        <p:spPr>
          <a:xfrm>
            <a:off x="5137200" y="1606680"/>
            <a:ext cx="4006800" cy="5875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8"/>
          <p:cNvSpPr/>
          <p:nvPr/>
        </p:nvSpPr>
        <p:spPr>
          <a:xfrm>
            <a:off x="34920" y="1870200"/>
            <a:ext cx="52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5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5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11:29:50Z</dcterms:created>
  <dc:creator>MC SYSTEM</dc:creator>
  <dc:description/>
  <dc:language>en-US</dc:language>
  <cp:lastModifiedBy>Microsoft account</cp:lastModifiedBy>
  <dcterms:modified xsi:type="dcterms:W3CDTF">2017-07-11T11:57:06Z</dcterms:modified>
  <cp:revision>88</cp:revision>
  <dc:subject/>
  <dc:title>2009 IEEE 自动化和物流国际会议申办书</dc:title>
</cp:coreProperties>
</file>