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BC8A-4453-408A-8B34-B10361F3684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F14-EC0B-4754-93BD-25D352ED73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117-D586-43C5-A58B-B5D64E04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FC8-4C67-4316-B384-61B78744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74F-8CBE-4294-A20D-FDC16243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DB9-065A-4CFC-B789-EC1FCF5D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DFA5-07EC-492A-872C-BE19227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A71F-1958-49A9-9BFA-70D1F39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438-A65A-4EE8-ABE3-2440E13B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07E-3D2F-4399-97B5-354FFB66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B8E-F7F1-4974-8DEF-101A9E28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970-7119-4E82-96F9-D9D65D1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7FF-5FE1-4086-9D86-C950092F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D83-0DFC-4E1B-B5A9-5B617EE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51D3-EC47-4F08-ABF4-5D8B1A711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27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018 ADC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5203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836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5-27 July 2018 (W-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henyang, P.R.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307440" y="644364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for TC6.1 meeting at 2017 IFAC World Congress, Toulouse (11 July 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IFAC logo.jpg"/>
          <p:cNvPicPr/>
          <p:nvPr/>
        </p:nvPicPr>
        <p:blipFill>
          <a:blip r:embed="rId2"/>
          <a:stretch/>
        </p:blipFill>
        <p:spPr>
          <a:xfrm>
            <a:off x="31680" y="210960"/>
            <a:ext cx="173196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tretch/>
        </p:blipFill>
        <p:spPr>
          <a:xfrm>
            <a:off x="7402680" y="1382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水洞"/>
          <p:cNvPicPr/>
          <p:nvPr/>
        </p:nvPicPr>
        <p:blipFill>
          <a:blip r:embed="rId1"/>
          <a:stretch/>
        </p:blipFill>
        <p:spPr>
          <a:xfrm>
            <a:off x="108000" y="1197000"/>
            <a:ext cx="9036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8"/>
          <p:cNvSpPr/>
          <p:nvPr/>
        </p:nvSpPr>
        <p:spPr>
          <a:xfrm>
            <a:off x="250920" y="134136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nxi Cave (1 day tou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al Tourist At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水洞123"/>
          <p:cNvPicPr/>
          <p:nvPr/>
        </p:nvPicPr>
        <p:blipFill>
          <a:blip r:embed="rId1"/>
          <a:stretch/>
        </p:blipFill>
        <p:spPr>
          <a:xfrm>
            <a:off x="611280" y="1268280"/>
            <a:ext cx="1993680" cy="229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3276720" y="1268280"/>
            <a:ext cx="2087280" cy="2297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539640" y="378936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xi water tunnel 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本溪水洞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203640" y="3789360"/>
            <a:ext cx="25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nmen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关门山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3"/>
          <a:stretch/>
        </p:blipFill>
        <p:spPr>
          <a:xfrm>
            <a:off x="6084720" y="1268280"/>
            <a:ext cx="2303640" cy="229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8"/>
          <p:cNvSpPr/>
          <p:nvPr/>
        </p:nvSpPr>
        <p:spPr>
          <a:xfrm>
            <a:off x="6084720" y="378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bai Mountain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长白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"/>
          <p:cNvPicPr/>
          <p:nvPr/>
        </p:nvPicPr>
        <p:blipFill>
          <a:blip r:embed="rId4"/>
          <a:stretch/>
        </p:blipFill>
        <p:spPr>
          <a:xfrm>
            <a:off x="971640" y="4292640"/>
            <a:ext cx="3024000" cy="1800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1116000" y="6237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lian Ice Valley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（大连冰峪沟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"/>
          <p:cNvPicPr/>
          <p:nvPr/>
        </p:nvPicPr>
        <p:blipFill>
          <a:blip r:embed="rId5"/>
          <a:stretch/>
        </p:blipFill>
        <p:spPr>
          <a:xfrm>
            <a:off x="4859280" y="4292640"/>
            <a:ext cx="2951280" cy="1820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4859280" y="6237360"/>
            <a:ext cx="3024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rical town of Hetuala in Fush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抚顺赫图阿拉老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ponsor: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eastern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472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astern University (NEU), founded in April, 19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e of the State Key Laboratory on advanced control research for process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主楼夜景"/>
          <p:cNvPicPr/>
          <p:nvPr/>
        </p:nvPicPr>
        <p:blipFill>
          <a:blip r:embed="rId1"/>
          <a:stretch/>
        </p:blipFill>
        <p:spPr>
          <a:xfrm>
            <a:off x="19080" y="2852640"/>
            <a:ext cx="4697280" cy="404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建筑馆"/>
          <p:cNvPicPr/>
          <p:nvPr/>
        </p:nvPicPr>
        <p:blipFill>
          <a:blip r:embed="rId2"/>
          <a:stretch/>
        </p:blipFill>
        <p:spPr>
          <a:xfrm>
            <a:off x="4660920" y="2881440"/>
            <a:ext cx="4519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CHEM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07560"/>
            <a:ext cx="914400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5 Whistler, British Columbia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009 Istanb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2006 Gram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2003 Hong K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000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997 Banff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4 Kyo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91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988 Lyngby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5 Frankfurt (Adaptive Control of Chemical Pro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IFAC logo.jpg"/>
          <p:cNvPicPr/>
          <p:nvPr/>
        </p:nvPicPr>
        <p:blipFill>
          <a:blip r:embed="rId1"/>
          <a:stretch/>
        </p:blipFill>
        <p:spPr>
          <a:xfrm>
            <a:off x="249120" y="115920"/>
            <a:ext cx="17305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18 ADCHEM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ed by the Chinese Process Control Conference (CPCC) on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ect 400 participants for ADCHEM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pect 800 participants for CPCC i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s with the large Chinese process control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anquet and lunches inclu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/Hotels: Wanxi Hotel and Sofi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8101080" y="17002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9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018 IFAC ADCHEM on 25-27 Jul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inese Process Control Conference, 28-29 J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raft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0 Sept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ceptance Notificat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Jan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apers submission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1 March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nal program availabl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 April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onference: selected papers invited for a special issue of the Journal of 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2494080" y="6093000"/>
            <a:ext cx="42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dchem2018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640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Honorary Chair: Tianyou Chai (N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OC Chair: S. Joe Q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Co-Chair: Jinliang Ding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MS PGothic"/>
              </a:rPr>
              <a:t>Secretariat: Qiang Liu (N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PC Chair: B. Wayne Bequette (R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o-Chair: Furong Gao (HK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Area Co-Chai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ry Biegler (USA), Scheduling and Optim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f Findeisen (GER), Model-based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Guay (CAN), Modeling and Identif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Bagterp Jørgensen (DEN), Process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ltan Nagy (USA), Batch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 Wang (USA), Big Data Analytics and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 Zavala (USA), Energy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lace: Shenyang, China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largest city of Northeast Ch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rgest airport of the northea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irect flights from major Asian cities and Frankfurt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nue: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4149720"/>
            <a:ext cx="9186840" cy="2570040"/>
          </a:xfrm>
          <a:prstGeom prst="rect">
            <a:avLst/>
          </a:prstGeom>
          <a:ln w="0">
            <a:noFill/>
          </a:ln>
        </p:spPr>
      </p:pic>
      <p:sp>
        <p:nvSpPr>
          <p:cNvPr id="69" name="Line Callout 1 (Accent Bar) 1"/>
          <p:cNvSpPr/>
          <p:nvPr/>
        </p:nvSpPr>
        <p:spPr>
          <a:xfrm>
            <a:off x="2484360" y="3500280"/>
            <a:ext cx="1727280" cy="865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Callout 1 (Accent Bar) 7"/>
          <p:cNvSpPr/>
          <p:nvPr/>
        </p:nvSpPr>
        <p:spPr>
          <a:xfrm>
            <a:off x="4938840" y="4581360"/>
            <a:ext cx="172692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tel 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enue and Hot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anxin Hotel and Sofitel Ho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th are five stars next to each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Shenyang Air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 minutes from the high-speed train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ference Venue: Wanx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anxin: Negotiated rate about $7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itel: Negotiated rate about $100/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[Need show-hands on preference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xi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7051680" cy="4703760"/>
          </a:xfrm>
          <a:prstGeom prst="rect">
            <a:avLst/>
          </a:prstGeom>
          <a:ln w="0">
            <a:noFill/>
          </a:ln>
        </p:spPr>
      </p:pic>
      <p:pic>
        <p:nvPicPr>
          <p:cNvPr id="75" name="Content Placeholder 6" descr=""/>
          <p:cNvPicPr/>
          <p:nvPr/>
        </p:nvPicPr>
        <p:blipFill>
          <a:blip r:embed="rId2"/>
          <a:stretch/>
        </p:blipFill>
        <p:spPr>
          <a:xfrm>
            <a:off x="539640" y="194796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3"/>
          <a:stretch/>
        </p:blipFill>
        <p:spPr>
          <a:xfrm>
            <a:off x="1338120" y="2227320"/>
            <a:ext cx="6667560" cy="4448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2332080" y="2503440"/>
            <a:ext cx="68482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itel Sheny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" descr=""/>
          <p:cNvPicPr/>
          <p:nvPr/>
        </p:nvPicPr>
        <p:blipFill>
          <a:blip r:embed="rId2"/>
          <a:stretch/>
        </p:blipFill>
        <p:spPr>
          <a:xfrm>
            <a:off x="0" y="1600200"/>
            <a:ext cx="5764320" cy="3844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6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5759640" cy="4101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5" descr=""/>
          <p:cNvPicPr/>
          <p:nvPr/>
        </p:nvPicPr>
        <p:blipFill>
          <a:blip r:embed="rId4"/>
          <a:stretch/>
        </p:blipFill>
        <p:spPr>
          <a:xfrm>
            <a:off x="1765440" y="2281320"/>
            <a:ext cx="510048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"/>
          <p:cNvPicPr/>
          <p:nvPr/>
        </p:nvPicPr>
        <p:blipFill>
          <a:blip r:embed="rId5"/>
          <a:stretch/>
        </p:blipFill>
        <p:spPr>
          <a:xfrm>
            <a:off x="2357280" y="2682720"/>
            <a:ext cx="5772240" cy="4124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6"/>
          <a:stretch/>
        </p:blipFill>
        <p:spPr>
          <a:xfrm>
            <a:off x="5137200" y="1606680"/>
            <a:ext cx="4006800" cy="587520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34920" y="1870200"/>
            <a:ext cx="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29:50Z</dcterms:created>
  <dc:creator>MC SYSTEM</dc:creator>
  <dc:description/>
  <dc:language>en-US</dc:language>
  <cp:lastModifiedBy>Microsoft account</cp:lastModifiedBy>
  <dcterms:modified xsi:type="dcterms:W3CDTF">2017-07-11T11:57:06Z</dcterms:modified>
  <cp:revision>88</cp:revision>
  <dc:subject/>
  <dc:title>2009 IEEE 自动化和物流国际会议申办书</dc:title>
</cp:coreProperties>
</file>